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8.jpeg" ContentType="image/jpeg"/>
  <Override PartName="/ppt/media/image10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12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FFB-B005-4EC9-94F8-50489297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784-957E-4243-9124-747E777D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F22-501F-45D3-9954-6DB4E379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121-677C-469A-9CCC-10E2A7A7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C4D-8DC3-4C85-92EF-E6B0A4E7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995-601F-4965-B976-01150A96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A72-DD92-4F07-8292-B8940076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184-5FC1-4C35-88C1-B1428C8F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DAC-49C2-4127-A8B0-D14556D1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BAF-D5D5-4F17-8AF2-0F51A63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22A-A5DC-48A9-949C-4BCF41EF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03E-05A3-4A3F-9387-5F1FC585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4191-A26F-40B2-A820-8D0325E582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Times New Roman"/>
                <a:ea typeface="隶书"/>
              </a:rPr>
              <a:t>我 爱 我 家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k,hjh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contrast="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、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小家到大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发散思维”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一段时期内不拘一格地朝着多种方向去探寻各种不同的方法、途径及答案，这种呈散射型或分叉型的思维模式就叫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发散思维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由于它较少受传统观念束缚，不轻易苟同于一种现成的说法或不急于归一，且往往能因此出现一些奇思异想，所以也称作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求异思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或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开放式思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3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其他地方还能用“家”这个字眼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6694800">
            <a:off x="2250720" y="1711080"/>
            <a:ext cx="831600" cy="2133720"/>
          </a:xfrm>
          <a:prstGeom prst="ellipse">
            <a:avLst/>
          </a:prstGeom>
          <a:solidFill>
            <a:srgbClr val="99ffcc"/>
          </a:solidFill>
          <a:ln w="57240">
            <a:solidFill>
              <a:srgbClr val="90d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心灵家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514600"/>
            <a:ext cx="2286000" cy="1905120"/>
          </a:xfrm>
          <a:prstGeom prst="sun">
            <a:avLst>
              <a:gd name="adj" fmla="val 30486"/>
            </a:avLst>
          </a:prstGeom>
          <a:solidFill>
            <a:srgbClr val="59c56b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845"/>
                </a:solidFill>
                <a:latin typeface="隶书"/>
                <a:ea typeface="隶书"/>
              </a:rPr>
              <a:t>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950600">
            <a:off x="4724280" y="838080"/>
            <a:ext cx="968400" cy="2171880"/>
          </a:xfrm>
          <a:prstGeom prst="ellipse">
            <a:avLst/>
          </a:prstGeom>
          <a:solidFill>
            <a:srgbClr val="99ffcc"/>
          </a:solidFill>
          <a:ln w="57240">
            <a:solidFill>
              <a:srgbClr val="90d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过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未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4681800">
            <a:off x="5807160" y="1812240"/>
            <a:ext cx="887400" cy="2292120"/>
          </a:xfrm>
          <a:prstGeom prst="ellipse">
            <a:avLst/>
          </a:prstGeom>
          <a:solidFill>
            <a:srgbClr val="99ffcc"/>
          </a:solidFill>
          <a:ln w="57240">
            <a:solidFill>
              <a:srgbClr val="90d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家的故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1151800">
            <a:off x="3429000" y="761760"/>
            <a:ext cx="914400" cy="2125440"/>
          </a:xfrm>
          <a:prstGeom prst="ellipse">
            <a:avLst/>
          </a:prstGeom>
          <a:solidFill>
            <a:srgbClr val="99ffcc"/>
          </a:solidFill>
          <a:ln w="57240">
            <a:solidFill>
              <a:srgbClr val="90d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3593400">
            <a:off x="2252160" y="3157200"/>
            <a:ext cx="914400" cy="2219400"/>
          </a:xfrm>
          <a:prstGeom prst="ellipse">
            <a:avLst/>
          </a:prstGeom>
          <a:solidFill>
            <a:srgbClr val="99ffcc"/>
          </a:solidFill>
          <a:ln w="57240">
            <a:solidFill>
              <a:srgbClr val="90d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诗词歌曲俗语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6582000">
            <a:off x="5752800" y="3009600"/>
            <a:ext cx="761760" cy="2209680"/>
          </a:xfrm>
          <a:prstGeom prst="ellipse">
            <a:avLst/>
          </a:prstGeom>
          <a:solidFill>
            <a:srgbClr val="99ffcc"/>
          </a:solidFill>
          <a:ln w="57240">
            <a:solidFill>
              <a:srgbClr val="90d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游子思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608200">
            <a:off x="4581000" y="3960720"/>
            <a:ext cx="838440" cy="1905120"/>
          </a:xfrm>
          <a:prstGeom prst="ellipse">
            <a:avLst/>
          </a:prstGeom>
          <a:solidFill>
            <a:srgbClr val="99ffcc"/>
          </a:solidFill>
          <a:ln w="57240">
            <a:solidFill>
              <a:srgbClr val="90d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动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之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023600">
            <a:off x="3352320" y="4038120"/>
            <a:ext cx="914400" cy="1828800"/>
          </a:xfrm>
          <a:prstGeom prst="ellipse">
            <a:avLst/>
          </a:prstGeom>
          <a:solidFill>
            <a:srgbClr val="99ffcc"/>
          </a:solidFill>
          <a:ln w="57240">
            <a:solidFill>
              <a:srgbClr val="90d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家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国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845"/>
                </a:solidFill>
                <a:latin typeface="宋体"/>
              </a:rPr>
              <a:t>（大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05720" y="45720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07920" y="1809720"/>
            <a:ext cx="19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再 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B94F1-DA88-414E-BE21-449F454F69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2286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 </a:t>
            </a:r>
            <a:r>
              <a:rPr b="0" lang="zh-CN" sz="2400" spc="-1" strike="noStrike">
                <a:solidFill>
                  <a:srgbClr val="990000"/>
                </a:solidFill>
                <a:latin typeface="隶书"/>
                <a:ea typeface="隶书"/>
              </a:rPr>
              <a:t>家的故事：母亲患尿毒症子女争相捐肾 孝心编织永恒秘密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8080"/>
            <a:ext cx="883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         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9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月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30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日，上海中山医院做了一个非常特殊的手术：山东汉子田世国在瞒着母亲的情况下，将自己的一个肾脏移植给身患尿毒症的母亲。手术很成功，但老母亲至今不知道捐肾的“大善人”正是自己的亲生儿子。　　 </a:t>
            </a:r>
            <a:br>
              <a:rPr sz="2400"/>
            </a:b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　　田世国老家在山东枣庄。工作地点在广州，难得回家。今年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2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月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26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日，田世国的弟弟田世凯从老家给他打电话说：母亲查出患尿毒症。听到这不幸消息，田世国仿佛天塌了下来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　　第二天，田世国匆匆踏上北上的列车，回到了母亲的身边。看着母亲被病魔折磨的消瘦不堪的身躯，田世国心里十分的痛苦。他说：“母亲操劳一生，该享福的时候却患了重病”，他永远忘不了，小时候，母亲为了给他们做豆浆，每天五点起床。自从他去广东上班以后，从不关心天气状况的母亲，每天守在电视机前收看天气预报，牵挂着远方的儿子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99072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　    田世国偷偷跑到上海中山医院做了血样检查，配型成功后，他毅然决定将自己的一个肾脏移植给妈妈。田世国的妹妹，刚刚生完孩子六个月，也跑到上海做了血样检查，结果也和母亲配型成功。弟弟田世凯患有心脏病，也抢着做检查为老母换肾，最后，身为大哥的田世国一锤定音：“我是大哥，我说了算，肾换我的！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　　田世国说，他在广州的妻子非常支持他把肾捐给母亲，妻子还说，如果他配型不成功，自己也要去医院检查，看能不能把肾捐给婆婆。田世国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14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岁的儿子同样抢着给奶奶捐肾：“我是全家年纪最轻的，还是让奶奶用我的肾吧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         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9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月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27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日早上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5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时， 田世国把母亲骗到上海。“如果我妈知道那个肾是我的，她会从楼上跳下去，她绝对做得出来！”田世国嘴唇哆嗦着，“她真的会跳下去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144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来到上海中山医院后，母亲住在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7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楼的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32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床，田世国就住在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6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楼的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25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床，一层之隔，母亲却一直不知道捐肾的就是自己的亲生儿子。田世国的弟弟田世凯一直守在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7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楼母亲的病房门口，几乎连眼睛都不敢眨一下。他非常担心，万一哪家媒体的记者闯进去采访母亲，那他们苦心设计的一切就全完了。两层楼上所有的护士和病人全被田世国的孝举所感动，都小心翼翼地帮着瞒母亲，幸福的母亲就一直生活在儿子精心设置的“骗局”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2222"/>
                </a:solidFill>
                <a:latin typeface="宋体"/>
              </a:rPr>
              <a:t>　手术进行得很成功，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10</a:t>
            </a:r>
            <a:r>
              <a:rPr b="0" lang="zh-CN" sz="2400" spc="-1" strike="noStrike">
                <a:solidFill>
                  <a:srgbClr val="222222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222222"/>
                </a:solidFill>
                <a:latin typeface="_x000b__x000c_"/>
              </a:rPr>
              <a:t>7</a:t>
            </a:r>
            <a:r>
              <a:rPr b="0" lang="zh-CN" sz="2400" spc="-1" strike="noStrike">
                <a:solidFill>
                  <a:srgbClr val="222222"/>
                </a:solidFill>
                <a:latin typeface="宋体"/>
              </a:rPr>
              <a:t>日，田世国和母亲已康复出院回到山东老家了，目前一切情况良好。当记者问田世国，母亲是否已经知道儿子捐肾的事？他说：“如果我妈恢复得很好，这就是个一辈子的秘密，如果我妈排斥反应很强烈，我也许会告诉她，激励她活下去，我妈会因为珍惜他儿子的这个肾而坚持活下去的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8077320" y="617220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10800"/>
                </a:moveTo>
                <a:lnTo>
                  <a:pt x="22146" y="3794"/>
                </a:lnTo>
                <a:lnTo>
                  <a:pt x="2214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一、谈谈你的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ff66cc"/>
                </a:solidFill>
                <a:latin typeface="宋体"/>
              </a:rPr>
              <a:t>面积、家具、装潢等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5400" spc="-1" strike="noStrike">
                <a:solidFill>
                  <a:srgbClr val="ffff00"/>
                </a:solidFill>
                <a:latin typeface="宋体"/>
              </a:rPr>
              <a:t>这之前你“家”住在哪里？祖辈、父辈给你讲过吗？和现在的家比较比较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3.</a:t>
            </a:r>
            <a:r>
              <a:rPr b="0" lang="zh-CN" sz="6000" spc="-1" strike="noStrike">
                <a:solidFill>
                  <a:srgbClr val="ff00ff"/>
                </a:solidFill>
                <a:latin typeface="宋体"/>
              </a:rPr>
              <a:t>你对现在的家满意吗？你理想中的家是什么样子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143000" y="-671400"/>
            <a:ext cx="11430000" cy="8200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谈谈家庭成员以及他们之间发生的一些事情：</a:t>
            </a:r>
            <a:r>
              <a:rPr b="0" lang="zh-CN" sz="4800" spc="-1" strike="noStrike" u="sng">
                <a:solidFill>
                  <a:srgbClr val="ccccff"/>
                </a:solidFill>
                <a:uFillTx/>
                <a:latin typeface="宋体"/>
              </a:rPr>
              <a:t>感动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、伤心、愧疚、有趣、尴尬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5.</a:t>
            </a:r>
            <a:r>
              <a:rPr b="0" lang="zh-CN" sz="6000" spc="-1" strike="noStrike">
                <a:solidFill>
                  <a:srgbClr val="ff0000"/>
                </a:solidFill>
                <a:latin typeface="宋体"/>
              </a:rPr>
              <a:t>你最想对父母说的一句话是什么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cc"/>
                </a:solidFill>
                <a:latin typeface="Times New Roman"/>
              </a:rPr>
              <a:t>6.</a:t>
            </a:r>
            <a:r>
              <a:rPr b="0" lang="zh-CN" sz="7200" spc="-1" strike="noStrike">
                <a:solidFill>
                  <a:srgbClr val="ff66cc"/>
                </a:solidFill>
                <a:latin typeface="宋体"/>
              </a:rPr>
              <a:t>试着用两三个词语概括你的“家”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思考：以上词语除了是“家”具有的特点，其他地方也能用这些词语吗？试着用比喻的形式描述“家”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讨论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家是：</a:t>
            </a:r>
            <a:r>
              <a:rPr b="0" lang="zh-CN" sz="4000" spc="-1" strike="noStrike" baseline="-24000">
                <a:solidFill>
                  <a:srgbClr val="ff3300"/>
                </a:solidFill>
                <a:latin typeface="宋体"/>
              </a:rPr>
              <a:t>——————————————————</a:t>
            </a:r>
            <a:r>
              <a:rPr b="0" lang="zh-CN" sz="4000" spc="-1" strike="noStrike" u="sng" baseline="-24000">
                <a:solidFill>
                  <a:srgbClr val="ff3300"/>
                </a:solidFill>
                <a:uFillTx/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二、动物也有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模仿“森林是小鸟的家”写句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_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特俄特特热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_________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是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_________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的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00ff"/>
                </a:solidFill>
                <a:latin typeface="宋体"/>
              </a:rPr>
              <a:t>动物的家中有没有故事呢？发挥想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12:06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05:39Z</dcterms:modified>
  <cp:revision>12</cp:revision>
  <dc:subject>主题班会课件(分28大类): http://shop62905894.taobao.com</dc:subject>
  <dc:title>主题班会课件(分28大类): http://shop62905894.taobao.com</dc:title>
</cp:coreProperties>
</file>